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85E8-7715-45CC-867A-A0129653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A074-6FCF-47EF-86D0-F79C60F0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110A-6EC9-4964-B464-D014F7A42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FCC7-D17A-49A7-B330-4789EB7E4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A0E2-D63A-4C65-B1CB-F41434AF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E815-A950-4C5E-820C-964BEF59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29C8-32AF-4286-A6A0-73F901B62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2EF6-349B-4C01-90DD-6CE8F130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D0B7-7E03-4473-B8D3-C6FA09CA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CFC4-30FF-4EFC-86D8-D9724936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1274-588B-4CBE-B919-001CA92B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2684-196F-470E-986F-5ACAF0BD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5ED9-DB32-4132-9E6D-7AC3154F7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90920" y="243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kt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685800"/>
          <a:ext cx="6858000" cy="933624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609480" y="0"/>
            <a:ext cx="0" cy="131065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1066680"/>
            <a:ext cx="30492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4572000"/>
            <a:ext cx="30492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7696080"/>
            <a:ext cx="30492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757080"/>
            <a:ext cx="6095880" cy="88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B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Büff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E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H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Kängu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Lö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Ma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Mö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Müc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Papag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Ted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Ham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Jagu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685800"/>
            <a:ext cx="487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0" y="0"/>
          <a:ext cx="6858000" cy="780264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Wörterbuch Lektion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hn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jugation of wohn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m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(irregul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en (irregul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hen (irregul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hren (irregul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0" y="0"/>
          <a:ext cx="6858000" cy="748188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4290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2430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kt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685800"/>
          <a:ext cx="6858000" cy="933624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609480" y="0"/>
            <a:ext cx="0" cy="131065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1066680"/>
            <a:ext cx="30492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4572000"/>
            <a:ext cx="30492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7696080"/>
            <a:ext cx="30492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757080"/>
            <a:ext cx="6095880" cy="59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Schnec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Pfe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Dr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Spe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Qua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Fros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Strau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93"/>
              </a:rPr>
              <a:t>Vog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685800"/>
            <a:ext cx="487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507960"/>
            <a:ext cx="6858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k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t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ten T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ten M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ten Ab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üß d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üe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288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54016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35268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06404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77504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5879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629928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701028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782316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4316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304920"/>
            <a:ext cx="6858000" cy="65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k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te Nac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f Wiederse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schü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sch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 bin i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 bist d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e heisst d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h bi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h heis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 bis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9625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46735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4864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09588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80724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76201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82296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25116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84472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33676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8288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32084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9144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8628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0" y="0"/>
          <a:ext cx="6858000" cy="997560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el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utz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wim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fonier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ett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c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nz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i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a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ör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0" y="0"/>
          <a:ext cx="6858000" cy="997560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ketb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n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 Ki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ssb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0" y="-507960"/>
          <a:ext cx="6858000" cy="997560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Mut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V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chwes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Bru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Toch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So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O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Op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Grossmut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Grossv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Enk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Kin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0"/>
          <a:ext cx="6858000" cy="997560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Kus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Cous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Tan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Onk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Frau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Man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Ki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Mädch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Jun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Schlo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Köni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König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0"/>
          <a:ext cx="6858000" cy="997560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Scha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H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Kat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Hu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Schwe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Besu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 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 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 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14:07:53Z</dcterms:created>
  <dc:creator>udsd</dc:creator>
  <dc:description/>
  <dc:language>en-US</dc:language>
  <cp:lastModifiedBy>udsd</cp:lastModifiedBy>
  <dcterms:modified xsi:type="dcterms:W3CDTF">2011-05-31T18:14:00Z</dcterms:modified>
  <cp:revision>2</cp:revision>
  <dc:subject/>
  <dc:title>Slide 1</dc:title>
</cp:coreProperties>
</file>